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325-7335-42F2-BB52-4F878F0D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25F-278F-4CF5-A290-C3D0BF82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D81BD-6141-4B8E-BD1B-E522831B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0355-90A3-4656-916E-A670BC1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507EC-93F4-4FAB-B804-D8E8A698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7C738-DA3F-41AD-A80B-918B783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B8B2C-C721-4EC2-9383-AD26D2C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5C4D-26A9-4B30-86FF-A1BF54D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78F6-3CD4-4F94-9727-2203449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F508-6DF5-40FC-A609-DF94E036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3AE99-249C-4464-A174-CFCA693E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B3C7C-DD4C-4EB0-B5CF-40FF47F2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254-E3CD-4FBB-A7C5-4A2190F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F4C43-3BF4-4361-8E30-D3FBA3F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20A1-5903-4F6B-A5F3-40B0EBD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12EFF-522A-4B7A-B6D5-B9D702D6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D97BB-03BF-4562-A48F-333530E0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5BB22-7045-4099-8D1C-905468A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64E07-EAAF-428A-B643-7705E4E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9F5F-7A82-40E7-99AC-C87F307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FAAD8-66D0-4A83-9667-576F835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B9482-D206-47F0-B839-8B0919C9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903E9-C4FC-43B2-9B56-4726C6D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CFC-71BB-4814-9516-8BA6F9E1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82FF-DD6B-4610-8984-8876204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050E6-CFEA-4D0F-81D7-4C2BAD0D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BC64-E6D1-4419-8444-C7A743C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BBA77-4ABE-4CE1-8474-8CC5232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802BF-9013-42F5-AC61-6D7E0CA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DEBCF-92E4-49DE-AD3E-5E24036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D231-5DD7-4DD4-96BD-70EBC317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BEC4A-0E25-4353-99DE-4678D1E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0DD9-99E7-422E-A46D-1C18E77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B2B1B-7EB9-4D00-8475-E5F80B5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027-C7C2-4F81-B444-A77C431B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7749-1072-4E8D-95F9-6AC813D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82B4-8AED-4C6B-BBCF-A80C2C05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6180F-0DF4-42FC-92D4-8CC0B628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6B62-18B8-46EE-80F3-18793C84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6D75-9D4F-4134-A342-1167FB7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B13F6-E23E-4523-AA4D-E06ED21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A6F3D-112C-465A-8BD4-9AA25D1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B2041-7965-43AB-9D4A-706501CC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59C65-470B-493B-B602-42E08A3A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9AD7-B8EE-4690-ADFC-CDBA110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C436-961E-47F5-B663-2B6BF8A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2228B-0ED8-484F-A6D7-EB77ACC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68F11-888F-4A20-9B48-00E5059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E0B32-DAF3-493C-A027-6B507E4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D78F7-E77A-4F81-BC41-3DB170A9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8440-250A-43A0-900E-81F2D801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B788B-2EB1-4959-A5AF-778F490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A7095-B726-4E7E-856E-604796A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052D-060F-4984-B0BC-BBB3254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01538-FC58-4E0A-BE4B-B119751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AF2C4-2677-49A4-B492-43CA7E80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2273-E42F-4404-AD1C-AD47A010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A72FF-D66D-4A3C-A3CC-A0C2133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88B0-37E9-4F87-90E0-CDE6941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29F5C-9FDA-4B24-B1D6-3E67302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79901-D7D9-4EA8-951B-DB1F686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2C14B-372B-40E3-93CA-DB0C390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F8579-8B44-464C-BCE2-B03C575C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CE228-4ADD-4175-9C1D-53DAE38E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63557-B0B4-440B-AFF4-B143DF79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FEB2E-34B3-4F57-8309-4D335C51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11DBA-36B0-427B-B00A-E5BC9EC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27D-7F7B-4E86-93B9-CE5F771F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50FB3-666E-48B5-93FF-A0A4F641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FBF9B-EB87-4415-975C-648BD0C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6C33C-7621-4729-BA0F-04C57A4A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3D371-9F41-4EDA-9871-67222C4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34397-77D4-46F2-B8E8-CE81421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9EF57-4314-4249-B808-5B229087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2F762-1862-4FCC-9F99-44A48087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DA77D-EC57-4249-83E3-8D490E1B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050DA-8939-4EB4-A89D-9BCECCE4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871A3-B165-4EDD-B676-53C211B1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4A5-35CC-4AE6-B96B-BADFF5F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A81E8-7657-4395-AA1D-4E4172C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9474A-1A02-4FBA-B14C-56825C4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12C1D-38C0-40F4-9824-422F216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D7452-A832-4FFE-B2C5-304E545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9C72B-CA89-4E46-A050-E5D1B251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1FEF7-8454-4A00-9298-D82FA5E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CBEA0-0148-48D3-9C49-858C060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101E9-5A67-493A-9A6E-0F7AC19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594E9-E638-4DA9-9E52-528ABD5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796AE-0325-4704-8FAF-1027F942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0359-8AFB-4676-89F4-6862E65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FD8B0-C4E0-46FA-BD9D-2BB0362A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E3E22-1990-488F-95D6-34C6A9CC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50143-6B30-4AE1-84EB-9586A1C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BD515-47EB-42F0-9F70-2F5D4335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EEBEB-1DE3-49E6-8518-E61CFE3A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96311-798F-478F-AAB0-F3C8557E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6643B-F06D-42DB-8BC7-A146958A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7BA55-021B-4E60-A348-6B57F79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86DCB-DEB1-4495-89A5-603C5B7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F0ACF-846F-472A-BBBC-0BEC1BCC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3C5-0A33-4551-A52D-4F40BDF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9A291-A6DD-41B8-B1F9-0103887F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00E40-C25B-458E-8C2A-091B809E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0AACE-9451-44B2-9D62-F48EA75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87D5C-DC70-4D2F-82E8-418792B4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4415D-F316-4645-B9ED-01DAC23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1F7ED-4021-41A9-9D14-3D71F52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47ED4-CC84-407C-84B2-CA8CE74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ABDAC-F37C-4FD2-A29A-89B2411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F6717-DD68-4C13-859C-2682936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60B61-591F-4F46-B163-C38ADAE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660-8D56-416D-9427-8B531FC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26E-A811-455C-AE38-415A996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FB066-04FF-463B-BC5E-D9480FF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9FB52-B262-4D3F-BF6F-D24723E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6540E-0289-4D8B-9686-F6FF5C8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2833B-A9ED-49FD-A896-6EC52EBE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992D4-C878-4893-9510-0490AB6D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73873-E703-4B45-B785-C34B51E6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4FC6A-9A1D-4448-8D76-74B3CA5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B4F71-23B4-4794-9037-52C77CE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C731C-1B86-4B8B-B28C-92DC0D0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0A2D1-B5FC-4D2E-9190-5AA97A2D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E853-BD68-4A0D-994D-8651D4C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FDA0E-A0D4-427E-AB30-DF8F64E4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33DB4-2769-4A0B-9615-3713B9C0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C112A-1584-4719-B7FF-C4D3DDF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8E254-0757-4A49-902C-E0DD197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F40A7-273E-4EBF-B33C-4BB35754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4CE67-8C1B-45AB-A2C8-97C8830B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D2420-075D-4676-B041-621505A2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7E76A-75C1-4034-B675-F5054344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72D21-3099-4134-A89E-C2F462D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65887-7B43-4068-8739-47F91E4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784-367A-4D77-9876-9D97768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94350-1B2D-4E1F-88C4-524A4C5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B8525-CFA1-407B-8272-5E81F9A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19422-3AD0-4A39-8353-1C96D23F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273B5-43D8-4B49-A9FF-5482668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73BD0-208F-4B6A-A8F6-8AABDAB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6B4ED-B5E9-424E-9A2C-4B2DE11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83BA2-6ECC-406F-9F5D-B558655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985A0-EF1E-48AB-B55B-3388794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608CC-E85F-46A7-BB54-88440269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750B2-C5ED-4629-B3CB-10A73A29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EEA3-9047-4F37-A079-78EE2E9A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A87E0-0642-4A03-8BB8-09C2277F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4EB8F-C77F-4D44-9CBD-DC7FA55F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06ED1-8656-4E5B-A362-C9B6F3C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69348-041C-4000-AAB6-E1FFEFE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37D5E-002C-487F-AC7C-5D6CBEC8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F2076-3B37-43AB-96C0-B9AA951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B9E1A-441C-4341-BFB3-D8A9BBB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98147-FAAA-4591-A62D-B7728E7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70BA1-8387-46AD-914F-3023648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396DB-DC12-49DE-B4B0-DD8E90C1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6DC-8579-4D08-BC03-100DD0BD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CA286-00C7-4376-80D3-BA64A35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0BC36-B5FA-4FD0-8B7E-9AE20971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4A015A-73C2-4944-9748-4D8C4B4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A85D9-56AC-4030-8E00-470B36C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4C8A3-1E82-4790-936C-18C5B36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065F5-79B4-4837-BA35-8FE9662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4EFF3-5498-409A-A30C-868EE9A8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85C0A-9F86-48D4-97FB-001B020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35494-AE53-4466-B6FC-83F4C1F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3AD1D-785F-4C8E-85E8-BBD619B1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9762-040E-4C54-9FAB-97A7A562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B7F99-F0BD-4BB8-93FF-0BEAFDEC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1F4ED-3021-43F1-B33D-F7BA8C72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F6F91-8050-4385-A253-83B5675E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E209-2FD5-44FD-BBB0-43455644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1536-F4F7-4677-8F23-8E31DC2B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919A-225E-49F2-AFC8-01F8B2E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75BE-4EDA-4B94-9D78-F6460DCE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A62-9BD5-4EDE-9D2C-13A30AB2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EAF9-9BD7-42F3-803A-8B72BB84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E78A-5919-40D6-AFC2-F4777F6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73C6-9EA0-412C-B1BB-D995573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92BF-8E03-4DCA-B599-C6AB1BD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36E3-DF6A-47FD-A6E7-8F521F8B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C6EE-C194-4ED5-A177-38A0B9E4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955A-0396-4997-B33E-445A59AA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1A09-AC5F-4274-BE36-D269781B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7241-9432-42D1-B938-88C3F305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3B8A-9CFA-4107-A581-B297620E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786-34CE-432B-A8BE-E5FE7E6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DB3B-06E1-472A-A339-C7E25A3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8FAE-DD7F-48EB-9A9C-36DDC50F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0E0B-E7C0-4C3B-8509-98A18A0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867B-65EB-4DA1-9C4E-ADA4389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06D8-6C54-4E54-9766-89E1329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63F3-C3EB-48A5-891A-CD26E9B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94688-B331-4C1F-B0F8-0681E644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76A6-5314-49E5-B93E-CFB42171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16A0-2D8D-45E2-A3B5-F95B42E7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DCE0-B37B-48B7-B347-73652504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2D9-9EC6-48E7-92A3-C1BCEBD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EAA1-DDCE-4731-9C42-B2D377CA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724A-D6EA-488D-BD39-24E7B39B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5F9D-D031-4080-AFB3-CC58451B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AB439-2158-41CF-921B-4F0667A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75F9-8BF8-44F8-AA3C-6C820655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595F-388A-47F4-9744-522A069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C67A-54DA-47CD-9981-146412B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041D-B3DE-4905-AD8D-1BB1A35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BF7C-924D-47FF-BFD1-4DE660A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ECBE-606E-4ED2-B143-DBF5CB65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4E9-5A12-4731-956B-649AF3D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0AD0-05FD-4CDC-8509-DD3BE664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C130-09B8-49B7-9608-667B8B20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15EF-D11B-40E9-A0E7-1BC23F4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1C13-6A8D-4AF4-AB26-6C129ED6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78E8-BDC6-4E83-90AF-7B1145B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B84F-F453-45B0-A3B2-00E5AB33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AEB5-7A5B-43FA-8BF3-58E6485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7ECC-CF6B-4AB3-ABAF-2B46EF8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0AE99-C772-4C2D-9E2D-995917D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458F-FF92-4816-B675-CF1BFDD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F75-D085-40B4-98EC-68BBB58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2D8D-BAB0-4688-98E7-CB7E0258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F1C4-AB50-44A6-B0F5-AB2B9485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F447-E45D-43D3-AAA3-B65A664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380A-8789-40A6-A9FE-824506E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7C8E-A793-4AED-8A01-2793F5B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4BAEB-30F5-44DE-893D-25F5DEF1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03AA-4881-4342-9A4D-4C8809A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B01AA-2429-46BA-BCDE-12E162BE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F0BE-3993-44CB-8D3B-9D16D32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CACD-CFC5-4580-A4CB-50A565C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AF2-88BE-4D04-958C-E38857C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A022-4409-446C-B4EA-6B8E6C1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E967-77A5-4637-BD22-C094824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EB51-469C-4B9A-872F-4C43DB0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8E65-F5CC-46EA-A1AA-979DDB0A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BCAB-51A2-4A37-9982-9B469AF9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4F8D-9DC6-4BD5-BDFE-4A0F57FE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7054-C540-4066-A69B-24CAA71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56EC-3A27-4795-88B9-692F0E0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5FD7-B858-4155-9756-61D67EFA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CFD0-40B6-4EB4-81E6-553E811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241-F518-4BB8-8026-30E292E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920F-29C8-4582-8D84-79A32AF5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047F2-ED3F-4E9E-8DE8-7DB97CF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AFF3-F674-49C7-B589-0A4C954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2043-558F-42B0-9D57-F4E726C3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863EB-4EB0-4D84-B780-56227F60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3D50-2DA0-4A8C-820C-FC937E85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96F9-9AAB-4F21-8F23-DCF80284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62D15-E71C-45A6-8BB0-11B3D90B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6B850-A50F-4412-AF87-4666515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3618-3DBD-44DF-8EFA-5118AEC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93AE-E263-4082-A786-483B427B8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A9F-4016-4CC2-A938-B7B039D70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129B-DDB3-44D7-B654-8F924C12A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74EE-90B2-4724-B49B-BB11DB21D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625C-D3EF-4F61-A9AE-FCEE69F2A6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D53-9703-44F4-AC5F-CB4FB1519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1D69-40A8-4105-BA1F-349D615BF6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86B-A406-4BF9-9827-9B542F24F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779-9272-49BE-872F-AD81135F7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916-8E57-4BD1-A39F-D58A6A0F7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407-F891-4926-996F-3F1D2554D3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6C0-7B4E-43C1-8B53-927AC73FB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F35-8A0A-4327-90B9-B9AD305D0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8F1-6544-4555-8AE9-7B2B073AA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1084-EB9D-48EE-87E6-89976FF5B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1A5-81E2-4F27-8C6F-BF0106671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72C-F2DF-4ED7-BF80-CD3C196DE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93B-D0EA-4C4B-AFF9-0A580D501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DFD-9CB4-4214-B760-6D3D74F9C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CA8-90E9-4732-ACEE-C6641A0E6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1F0B-C5EE-42FE-B107-721473904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A1C-4533-4653-9321-322FBCB7A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63D-64EC-42D5-A7E1-6048031B0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3D9-7CD4-4FDE-BD22-DD0F86DAA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053-1AC6-4606-B908-F5579919B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9AF-FE5E-49F5-9836-5EE0C37AD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FA4-481E-4EC5-AD36-949756EBA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3CD-D2A0-432D-98ED-ED8A8DB1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C534-3397-4C07-9AF7-E1527C1AF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1CA2-D3E0-4F47-A376-1239D21C7F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471D-490B-438D-987B-EE783B524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279-343A-4B35-AF32-39CEF87252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DC1-0415-456F-BF78-0497C77FC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333-D89F-4529-8009-B6405F139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7F8-B72E-4467-8371-AD2340134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1D0C-0B7F-4894-916C-6DC598FD5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119C-8BD6-4DBA-BA6D-C639ACA72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24D-4101-4ACF-A276-2B287BFB5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8D8-FD4C-482A-90F3-523B2BE89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8FE-B090-4F43-98CE-528EED180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938320" y="3081240"/>
            <a:ext cx="32673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33440" y="933480"/>
            <a:ext cx="8277120" cy="499104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6072120" y="1785960"/>
            <a:ext cx="25718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428760" y="2214720"/>
            <a:ext cx="807228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500040" y="2592360"/>
            <a:ext cx="8186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571680" y="3000240"/>
            <a:ext cx="807228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571680" y="3425760"/>
            <a:ext cx="81295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"/>
          <p:cNvSpPr/>
          <p:nvPr/>
        </p:nvSpPr>
        <p:spPr>
          <a:xfrm>
            <a:off x="571680" y="3786120"/>
            <a:ext cx="80722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8"/>
          <p:cNvSpPr/>
          <p:nvPr/>
        </p:nvSpPr>
        <p:spPr>
          <a:xfrm>
            <a:off x="571680" y="4214880"/>
            <a:ext cx="807228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9"/>
          <p:cNvSpPr/>
          <p:nvPr/>
        </p:nvSpPr>
        <p:spPr>
          <a:xfrm>
            <a:off x="620640" y="4586400"/>
            <a:ext cx="80726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"/>
          <p:cNvSpPr/>
          <p:nvPr/>
        </p:nvSpPr>
        <p:spPr>
          <a:xfrm>
            <a:off x="500040" y="4975200"/>
            <a:ext cx="8186760" cy="361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2"/>
          <p:cNvSpPr/>
          <p:nvPr/>
        </p:nvSpPr>
        <p:spPr>
          <a:xfrm>
            <a:off x="571680" y="5392800"/>
            <a:ext cx="52146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6280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500120" y="2643120"/>
            <a:ext cx="11066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2928960" y="2643120"/>
            <a:ext cx="11066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3714840" y="3500280"/>
            <a:ext cx="64296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4786200" y="3500280"/>
            <a:ext cx="11080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6286680" y="3500280"/>
            <a:ext cx="11077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1143000" y="3929040"/>
            <a:ext cx="11066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2863800" y="3929040"/>
            <a:ext cx="68760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2214720" y="4714920"/>
            <a:ext cx="5713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3286080" y="4740120"/>
            <a:ext cx="13572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1150920" y="5214960"/>
            <a:ext cx="149220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2643120" y="6012000"/>
            <a:ext cx="1106640" cy="366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3"/>
          <p:cNvSpPr/>
          <p:nvPr/>
        </p:nvSpPr>
        <p:spPr>
          <a:xfrm>
            <a:off x="4572000" y="6000840"/>
            <a:ext cx="61740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4"/>
          <p:cNvSpPr/>
          <p:nvPr/>
        </p:nvSpPr>
        <p:spPr>
          <a:xfrm>
            <a:off x="6643800" y="6000840"/>
            <a:ext cx="61740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5"/>
          <p:cNvSpPr/>
          <p:nvPr/>
        </p:nvSpPr>
        <p:spPr>
          <a:xfrm>
            <a:off x="7715160" y="6000840"/>
            <a:ext cx="61776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6"/>
          <p:cNvSpPr/>
          <p:nvPr/>
        </p:nvSpPr>
        <p:spPr>
          <a:xfrm>
            <a:off x="1312920" y="6404040"/>
            <a:ext cx="830160" cy="341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52520" y="1924200"/>
            <a:ext cx="8238960" cy="30096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214280" y="2786040"/>
            <a:ext cx="67867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357200" y="4071960"/>
            <a:ext cx="742968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1128600" y="4497480"/>
            <a:ext cx="4500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09680" y="1604880"/>
            <a:ext cx="83246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52520" y="804960"/>
            <a:ext cx="8238960" cy="52480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3249720" y="1189080"/>
            <a:ext cx="2357280" cy="361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1271520" y="2050920"/>
            <a:ext cx="207180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5022720" y="2482920"/>
            <a:ext cx="164304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3726000" y="2975040"/>
            <a:ext cx="167148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3475080" y="3394080"/>
            <a:ext cx="16700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7"/>
          <p:cNvSpPr/>
          <p:nvPr/>
        </p:nvSpPr>
        <p:spPr>
          <a:xfrm>
            <a:off x="5786280" y="3786120"/>
            <a:ext cx="29289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8"/>
          <p:cNvSpPr/>
          <p:nvPr/>
        </p:nvSpPr>
        <p:spPr>
          <a:xfrm>
            <a:off x="642960" y="4264200"/>
            <a:ext cx="930240" cy="328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9"/>
          <p:cNvSpPr/>
          <p:nvPr/>
        </p:nvSpPr>
        <p:spPr>
          <a:xfrm>
            <a:off x="4929120" y="4643280"/>
            <a:ext cx="250056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0"/>
          <p:cNvSpPr/>
          <p:nvPr/>
        </p:nvSpPr>
        <p:spPr>
          <a:xfrm>
            <a:off x="2000160" y="5537160"/>
            <a:ext cx="292896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57280" y="1866960"/>
            <a:ext cx="8029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24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33440" y="1604880"/>
            <a:ext cx="82771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09760" y="1166760"/>
            <a:ext cx="8124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4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